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D1821-E5FA-44DE-A676-82A91513E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3E003-4075-45EE-B3D1-127E7E754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CB86E-D310-4DE1-8126-D1805B242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E55E3-6AF6-49D4-8E69-2D1E421B9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F1868-B210-497B-A48A-C31FAB9C5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F0141-6D13-4E37-9510-0050E22C5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3D031-1B41-4596-940D-B8836BA23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E6583-98B5-4404-A81C-9698540E4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73712-29E7-4920-A4E4-B698DE94E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D6EDC-52F0-4143-B353-DA9A3D2A6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67D38-F912-4AE7-9CAB-148FA0863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C9852-BDD4-4A65-9CD9-9B1F4F1B2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7D133-92C3-4233-B004-658B3847D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C5A4E-C88A-49FB-8351-A9767C44B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B1C3A-6C8E-46FA-8F98-1F97FCD0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64AA0-BBDE-48B0-AFF3-341DB3A6F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8388E-131B-40D2-9FE5-E1B3F93B0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9C490D-ED79-4F4C-A2E1-B6C979D95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78BF4D-286C-426C-BA68-91BAE485B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DBCA2-7861-4D08-925F-839977F9D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503D4-4FCE-4161-9DF9-FA34C5AFF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3737F-6AEF-4343-A555-3D576421C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F6BD-892D-4340-ACA5-020B5CE7B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56F91-CE40-44D2-9482-5D06A2612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FE0A9-AEF4-4F4B-8D84-66E195BBF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958F7-5775-4857-8506-F6B4A2990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C9176-9AB9-4608-91A0-57E187DFE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191DA4-4C07-47C4-816C-4111755BAC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E053DA-01DB-4980-9C10-EED771BEC3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44271-6661-4003-8255-45BC252FFA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1C03B5-6AAA-460A-920B-6D52A03DF6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2B463-EEF0-4A34-AD30-69DCF8E14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8E008-474C-427D-A645-A062CD687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5EB70-4C4B-4323-BA9F-44DE4B14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7671A8-7799-4872-936C-611E5CB81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336BB-2128-42F0-B43C-4E108C5AF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FBEC9-1D93-4E31-A230-4FC45C4A4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5C37C-2C86-4B3E-AF41-F9A76FAE1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3C4EF-4347-484A-BDFA-545704FF1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EE18ED-0AB8-48F1-89CE-DD84C8180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EC505-D7B6-4513-AECE-CF38F0FC22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E88371-9616-4D60-9BCC-E18B026F2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A9B315-9FE1-4B3E-BC3F-4FE698AA4E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5012C-F3E4-4646-AC49-219571CFE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85292-17DE-4972-B290-9CFE0EAB0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33F5B-737F-4A1E-BADB-DBA3DA13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E050B-9478-455F-88A0-1ED3524A1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129A-50ED-4692-A132-55399B725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A216-6613-4E60-8971-D2EE7958F75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3D02-5687-406C-943F-6496B63CE4F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4488-51CB-426B-BFAC-854003D72695}"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A093-4591-4D81-BF13-BCA1131CC26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54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aina Lars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Who Typically Becomes Blind?</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on problems affect one in 20 (nearly 5 million) preschool-age children, ages 3-5, and 25 percent (12.1 million) of school-age children, ages 6-17.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y percent of severely visually impaired persons are age 65 or older. Fifty percent of that group are legally blin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afety Concerns for Blind of Visually Impaired Students in Physical Education  </a:t>
            </a:r>
            <a:endParaRPr b="0" lang="en-US" sz="36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tudents wear glasses, consider having them wear eyeglass protectors during activities using bal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 a peer to provide protection during ball activitie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possible, replace hard balls with Nerf bal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hanging the environment, take time to show the student where the equipment is, what it is used for, and how it fee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locomotor movements use a scattered form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Accommodations in Physical Education Class </a:t>
            </a:r>
            <a:endParaRPr b="0" lang="en-US" sz="44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students who are blind want to participate in the same activities as their peer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explicit feedback regarding the student’s movement pattern.</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erbal cues and physical guidance will help with succes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ysically assist the student through the motor learning pattern.</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tactile or auditory boundaries (beeper cones, bright colored cones, music, and mark floor with tape so student can feel with his toes or hand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cial Equipment for </a:t>
            </a:r>
            <a:br>
              <a:rPr sz="5000"/>
            </a:br>
            <a:r>
              <a:rPr b="0" lang="en-US" sz="5000" spc="-1" strike="noStrike">
                <a:solidFill>
                  <a:srgbClr val="04617b"/>
                </a:solidFill>
                <a:latin typeface="Calibri"/>
              </a:rPr>
              <a:t>Physical Education</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tach a string to balls and to the student’s hand so that balls don’t roll away.</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ho are blind can throw the ball , then retrieve it by pulling the string toward th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a guide rope or beeper cones when running.</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t bells or beepers inside of balls when appropriat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gle crepe paper as reference points throughout the gym.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ability Organizations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n Council of the Blin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55 15</a:t>
            </a:r>
            <a:r>
              <a:rPr b="0" lang="en-US" sz="2600" spc="-1" strike="noStrike" baseline="30000">
                <a:solidFill>
                  <a:srgbClr val="000000"/>
                </a:solidFill>
                <a:latin typeface="Constantia"/>
              </a:rPr>
              <a:t>th</a:t>
            </a:r>
            <a:r>
              <a:rPr b="0" lang="en-US" sz="2600" spc="-1" strike="noStrike">
                <a:solidFill>
                  <a:srgbClr val="000000"/>
                </a:solidFill>
                <a:latin typeface="Constantia"/>
              </a:rPr>
              <a:t> Street NW, Suite 1004, Washington, DC 20005</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800-424-8666; 202-467-5087</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http://www.ac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info@acb.org</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onal Federation of the Blin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00 Johnson Street, Baltimore, MD 21230</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410-659-9314</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nf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imagine@nf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ort and Recreational Site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ational Beep Baseball Associatio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568 Boulder Crest Street, Columbus, OH 43235</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614-442-1444</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nb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secretary@nbba.org</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ted States Association of Blind Athletes</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3 North Institute Street, Colorado Springs, CO 80903</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719-630-0616</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usa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mlucas@usa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aille Institute, </a:t>
            </a:r>
            <a:r>
              <a:rPr b="0" lang="en-US" sz="2600" spc="-1" strike="noStrike">
                <a:solidFill>
                  <a:srgbClr val="0070c0"/>
                </a:solidFill>
                <a:latin typeface="Constantia"/>
              </a:rPr>
              <a:t>http://brailleinstitute.org/docs/Facts_About_Blindness.pdf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onal Beep Ball Association,</a:t>
            </a:r>
            <a:r>
              <a:rPr b="0" lang="en-US" sz="2600" spc="-1" strike="noStrike">
                <a:solidFill>
                  <a:srgbClr val="0070c0"/>
                </a:solidFill>
                <a:latin typeface="Constantia"/>
              </a:rPr>
              <a:t> http://www.nbba.or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Worthen, Ben</a:t>
            </a:r>
            <a:r>
              <a:rPr b="0" lang="en-US" sz="2600" spc="-1" strike="noStrike">
                <a:solidFill>
                  <a:srgbClr val="0070c0"/>
                </a:solidFill>
                <a:latin typeface="Constantia"/>
              </a:rPr>
              <a:t> </a:t>
            </a:r>
            <a:r>
              <a:rPr b="0" lang="en-US" sz="2600" spc="-1" strike="noStrike">
                <a:solidFill>
                  <a:srgbClr val="000000"/>
                </a:solidFill>
                <a:latin typeface="Constantia"/>
              </a:rPr>
              <a:t>(August 18, 2009). In Beep Ball, Umpires Aren't Blind, But the Players Are. </a:t>
            </a:r>
            <a:r>
              <a:rPr b="0" i="1" lang="en-US" sz="2600" spc="-1" strike="noStrike">
                <a:solidFill>
                  <a:srgbClr val="000000"/>
                </a:solidFill>
                <a:latin typeface="Constantia"/>
              </a:rPr>
              <a:t>Wall Street Jour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n Foundation for the Blind, http://www.afb.or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IND - WHAT IS IT???</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lindness</a:t>
            </a:r>
            <a:r>
              <a:rPr b="0" lang="en-US" sz="2400" spc="-1" strike="noStrike">
                <a:solidFill>
                  <a:srgbClr val="000000"/>
                </a:solidFill>
                <a:latin typeface="Constantia"/>
              </a:rPr>
              <a:t> is the condition of lacking </a:t>
            </a:r>
            <a:r>
              <a:rPr b="1" lang="en-US" sz="2400" spc="-1" strike="noStrike">
                <a:solidFill>
                  <a:srgbClr val="000000"/>
                </a:solidFill>
                <a:latin typeface="Constantia"/>
              </a:rPr>
              <a:t>visual perception </a:t>
            </a:r>
            <a:r>
              <a:rPr b="0" lang="en-US" sz="2400" spc="-1" strike="noStrike">
                <a:solidFill>
                  <a:srgbClr val="000000"/>
                </a:solidFill>
                <a:latin typeface="Constantia"/>
              </a:rPr>
              <a:t>due to </a:t>
            </a:r>
            <a:r>
              <a:rPr b="1" lang="en-US" sz="2400" spc="-1" strike="noStrike">
                <a:solidFill>
                  <a:srgbClr val="000000"/>
                </a:solidFill>
                <a:latin typeface="Constantia"/>
              </a:rPr>
              <a:t>physiological</a:t>
            </a:r>
            <a:r>
              <a:rPr b="0" lang="en-US" sz="2400" spc="-1" strike="noStrike">
                <a:solidFill>
                  <a:srgbClr val="000000"/>
                </a:solidFill>
                <a:latin typeface="Constantia"/>
              </a:rPr>
              <a:t> or </a:t>
            </a:r>
            <a:r>
              <a:rPr b="1" lang="en-US" sz="2400" spc="-1" strike="noStrike">
                <a:solidFill>
                  <a:srgbClr val="000000"/>
                </a:solidFill>
                <a:latin typeface="Constantia"/>
              </a:rPr>
              <a:t>neurological factors</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ual perception</a:t>
            </a:r>
            <a:r>
              <a:rPr b="0" lang="en-US" sz="2400" spc="-1" strike="noStrike">
                <a:solidFill>
                  <a:srgbClr val="000000"/>
                </a:solidFill>
                <a:latin typeface="Constantia"/>
              </a:rPr>
              <a:t> is the ability to interpret information and surroundings from </a:t>
            </a:r>
            <a:r>
              <a:rPr b="1" lang="en-US" sz="2400" spc="-1" strike="noStrike">
                <a:solidFill>
                  <a:srgbClr val="000000"/>
                </a:solidFill>
                <a:latin typeface="Constantia"/>
              </a:rPr>
              <a:t>visible light </a:t>
            </a:r>
            <a:r>
              <a:rPr b="0" lang="en-US" sz="2400" spc="-1" strike="noStrike">
                <a:solidFill>
                  <a:srgbClr val="000000"/>
                </a:solidFill>
                <a:latin typeface="Constantia"/>
              </a:rPr>
              <a:t>reaching the </a:t>
            </a:r>
            <a:r>
              <a:rPr b="1" lang="en-US" sz="2400" spc="-1" strike="noStrike">
                <a:solidFill>
                  <a:srgbClr val="000000"/>
                </a:solidFill>
                <a:latin typeface="Constantia"/>
              </a:rPr>
              <a:t>eye</a:t>
            </a:r>
            <a:r>
              <a:rPr b="0" lang="en-US" sz="2400" spc="-1" strike="noStrike">
                <a:solidFill>
                  <a:srgbClr val="000000"/>
                </a:solidFill>
                <a:latin typeface="Constantia"/>
              </a:rPr>
              <a:t> is a </a:t>
            </a:r>
            <a:r>
              <a:rPr b="1" lang="en-US" sz="2400" spc="-1" strike="noStrike">
                <a:solidFill>
                  <a:srgbClr val="000000"/>
                </a:solidFill>
                <a:latin typeface="Constantia"/>
              </a:rPr>
              <a:t>medical</a:t>
            </a:r>
            <a:r>
              <a:rPr b="0" lang="en-US" sz="2400" spc="-1" strike="noStrike">
                <a:solidFill>
                  <a:srgbClr val="000000"/>
                </a:solidFill>
                <a:latin typeface="Constantia"/>
              </a:rPr>
              <a:t> specialty dealing with disorders of the nervous system.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urology </a:t>
            </a:r>
            <a:r>
              <a:rPr b="0" lang="en-US" sz="2400" spc="-1" strike="noStrike">
                <a:solidFill>
                  <a:srgbClr val="000000"/>
                </a:solidFill>
                <a:latin typeface="Constantia"/>
              </a:rPr>
              <a:t>is a </a:t>
            </a:r>
            <a:r>
              <a:rPr b="1" lang="en-US" sz="2400" spc="-1" strike="noStrike">
                <a:solidFill>
                  <a:srgbClr val="000000"/>
                </a:solidFill>
                <a:latin typeface="Constantia"/>
              </a:rPr>
              <a:t>medical</a:t>
            </a:r>
            <a:r>
              <a:rPr b="0" lang="en-US" sz="2400" spc="-1" strike="noStrike">
                <a:solidFill>
                  <a:srgbClr val="000000"/>
                </a:solidFill>
                <a:latin typeface="Constantia"/>
              </a:rPr>
              <a:t> specialty dealing with disorders of the nervous syste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9" name="Picture 3" descr="Blind.jpg"/>
          <p:cNvPicPr/>
          <p:nvPr/>
        </p:nvPicPr>
        <p:blipFill>
          <a:blip r:embed="rId1"/>
          <a:stretch/>
        </p:blipFill>
        <p:spPr>
          <a:xfrm>
            <a:off x="3962520" y="5181480"/>
            <a:ext cx="259056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VISUALLY IMPAIRED</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ually impaired" means a medically verified visual impairment accompanied by limitations in sight that interfere with acquiring information or interaction with the environment to the extent that special education instruction and related services may be need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2" name="Picture 3" descr="visually impaired.jpg"/>
          <p:cNvPicPr/>
          <p:nvPr/>
        </p:nvPicPr>
        <p:blipFill>
          <a:blip r:embed="rId1"/>
          <a:stretch/>
        </p:blipFill>
        <p:spPr>
          <a:xfrm>
            <a:off x="2819520" y="4800600"/>
            <a:ext cx="4267080" cy="17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uses of Blindness or </a:t>
            </a:r>
            <a:br>
              <a:rPr sz="5000"/>
            </a:br>
            <a:r>
              <a:rPr b="0" lang="en-US" sz="5000" spc="-1" strike="noStrike">
                <a:solidFill>
                  <a:srgbClr val="04617b"/>
                </a:solidFill>
                <a:latin typeface="Calibri"/>
              </a:rPr>
              <a:t>Visually Impaired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aracts (47.9%),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laucoma (12.3%),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ge-related macular degeneration (8.7%),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rneal opacity (5.1%), and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iabetic retinopathy (4.8%), among other caus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bnormalities and injuri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enetic defects such as Albinsm</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LBINSM</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ck of pigment, sensitive to exposure to sun, eyes sensitive to light and reflec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3" descr="Albinism.jpg"/>
          <p:cNvPicPr/>
          <p:nvPr/>
        </p:nvPicPr>
        <p:blipFill>
          <a:blip r:embed="rId1"/>
          <a:stretch/>
        </p:blipFill>
        <p:spPr>
          <a:xfrm>
            <a:off x="3124080" y="2743200"/>
            <a:ext cx="3353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inal Detachmen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s of the retina pulls away from the eye struc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0" name="Picture 3" descr="Retinal Detachment.jpg"/>
          <p:cNvPicPr/>
          <p:nvPr/>
        </p:nvPicPr>
        <p:blipFill>
          <a:blip r:embed="rId1"/>
          <a:stretch/>
        </p:blipFill>
        <p:spPr>
          <a:xfrm>
            <a:off x="2590920" y="274320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CTS ABOUT BLINDNES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very seven minutes someone in America loses their sight, often as part of the aging process.</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an estimated 15 million blind or visually impaired people in the United States. Nationally, among persons ages 21 to 64 who are visually impaired, only 41.5% are employed.</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mong individuals unable to see words and letters, this figure decreases to 29.9%.</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sually impaired is defined as any difficulty or inability to see words and letters even when wearing glasses or contact lenses.</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How Many Blind or Visually Impaired People Are There?</a:t>
            </a:r>
            <a:endParaRPr b="0" lang="en-US" sz="4500" spc="-1" strike="noStrike">
              <a:solidFill>
                <a:srgbClr val="04617b"/>
              </a:solidFill>
              <a:latin typeface="Calibri"/>
            </a:endParaRPr>
          </a:p>
        </p:txBody>
      </p:sp>
      <p:sp>
        <p:nvSpPr>
          <p:cNvPr id="214" name=""/>
          <p:cNvSpPr txBox="1"/>
          <p:nvPr/>
        </p:nvSpPr>
        <p:spPr>
          <a:xfrm>
            <a:off x="457200" y="18284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enty-one percent of people age 65 and over report some form of vision impairment. This represents 7.3 million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15 million blind and visually impaired people in the United States, according to Research to Prevent Blind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What Is Legally Blind?</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mally, a person is legally blind if their central vision acuity is 20/200 or less in the better eye, even with corrective lenses; or if they have central vision acuity of more than 20/200 if the peripheral field is restricted to a diameter of 20 degrees or less. Informally, those who, even with corrective lenses, cannot read the biggest letter on an eye chart are considered to be legally blin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00:02:51Z</dcterms:created>
  <dc:creator>DPS</dc:creator>
  <dc:description/>
  <dc:language>en-US</dc:language>
  <cp:lastModifiedBy>DPS</cp:lastModifiedBy>
  <dcterms:modified xsi:type="dcterms:W3CDTF">2010-02-09T18:54:36Z</dcterms:modified>
  <cp:revision>46</cp:revision>
  <dc:subject/>
  <dc:title>Blind and Visually impaired </dc:title>
</cp:coreProperties>
</file>